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3070C-5052-45F2-871C-09069B16EA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144AA-771D-442B-9B89-79AFADB6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59B1A-308E-4C75-BF26-74B106BF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8077B-1834-442D-9550-0B700BC7E0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A0D3A-C8F5-48F0-869D-F4EE7E86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935DB-7EE7-4ADC-9D04-62AF6938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FB673-3394-4546-AAAB-1FD92998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AF745-375F-4783-BF8C-2F023676E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51913-3566-4CB2-80CD-25CEBBE95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DE034-CB95-4A5A-B66B-51C20D0A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5040B-D98B-439D-AF9B-DEAA384D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50C64-3301-48D5-8B76-B9D0A888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5BF2-5B71-4ADA-AFA3-3783BC82DD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907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六章 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食管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，患者出现了胸闷、气急、心悸症状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练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呼吸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管插管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深呼吸，有效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多、咳痰无力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需持续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胃肠减压管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胃肠减压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管一般应保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情绪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肺部并发症的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生活习惯、饮食因素、遗传因素、疾病因素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主要特征性症状为进食哽咽感、异物感、胸骨后烧灼样、针刺样或牵拉摩擦样疼痛。中晚期主要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等综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，做好呼吸道与肠道准备；术后注意观察伤口及引流情况，及时发现出血、吻合口瘘、乳糜胸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食管癌术后常见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食管癌患者的临床表现和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食管癌术后容易发生吻合口瘘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消化系统常见的恶性肿瘤之一。据估计全世界每年大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未见任何阳性体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4.0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,Hb 8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镜检查：食管中段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长管腔狭窄，黏膜中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报告：鳞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Ⅱ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物停滞感或异物感、哽噎感、胸骨后灼烧样、针刺样或牵拉摩擦样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及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纤维光学内窥镜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核素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食管癌的首选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镜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免疫治疗及中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肺不张、肺炎、出血、吻合口瘘、乳糜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12:11:12Z</dcterms:modified>
  <cp:revision>88</cp:revision>
  <dc:subject/>
  <dc:title>内科护理学</dc:title>
</cp:coreProperties>
</file>